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DFB-B6B1-4C8E-9A10-44885FA3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55B-8DAC-4F93-887E-9CA3A0E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9901A-DCCB-4C95-AF31-6813875A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E5E4E-5E42-4511-94AD-DA469C1D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8D7D-54B3-475C-B1B2-02E74E8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91970-CD7B-4437-B507-869B7969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B0D61-0526-4060-BBE5-5ADEEEF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7D72-F52F-432A-ABB8-CE95C39C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73EF8-D877-439C-B218-6216C82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3AC95-8C6E-46FD-B0AD-A23DA55B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CBC27-45BB-44A1-940D-A452D6EE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3B323-90EF-4BD4-9244-592EF4FE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BDE-C334-4D86-A281-189809EE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12DFE-3326-4A8C-9A5C-676E0BE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BA21C-8629-48E3-B03B-B081539E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56D32-1004-42E1-A7CA-1BD73CB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AFB65-14FB-4742-9EDA-52F4A10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2BBD8-46E9-4266-BFF6-277CC002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008B4-F393-44D9-AA48-B3005A8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91405-4CE1-4F21-8CDD-B5609CE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5D3E8-6565-4C7E-892F-0CC6DBF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84202-BC26-4567-8BC3-C9D6108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FD87-F62D-46A2-BB86-FF195FA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DD3-FA0D-4818-9EE4-A79AC0A7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0155-14FC-400A-9AB1-5EE3BF40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CD2F-A24D-4B66-82F5-C3E03DCC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CA4A4-23F0-42A5-8512-6349412F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42C03-130A-45AF-A5ED-9170101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BB930-725F-49EF-B81F-362A4B6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8AF22-A84A-4460-B8AD-650DD082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AA082-1DA4-42D4-A619-E7AA41CF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E90D8-2690-4356-9D4B-3D51E51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7EBA7-C623-4FA1-8953-5400585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2E91-4804-4993-AAC5-042F1D8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490-FF8C-47D4-9A8B-C0BCD3DA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6F2F3-548A-4B15-8E2F-0CB77C1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A7D14-4F3E-4E72-8BD8-4CCE0C5A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7CD3-D231-4381-AEAC-304D8548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5FC2F-289C-4420-8386-CD89FDA4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8DE7-C148-4AF9-98C7-31F3CCD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B0602-36BB-4C22-A066-60173C3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E2999-92F4-41CF-8F1F-ADB8D1F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EA7B6-E33A-444C-B296-A8D3D612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BE7ED-8CE6-4EBE-89C8-CD162B65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357C0-193F-4C64-B9B8-AF70ECF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AC98-329A-4F52-B64B-2BFF270D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D5E6E-8AD8-4993-99C5-90AB7E1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033AA-2B17-48DD-AB54-9227247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769D9-BCF8-4832-9BE3-C4F82108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BE396-827B-46D4-A0DA-F3DAFA9F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5030E-2D64-4FBF-8E68-9CB0290E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9FE-CBA2-4352-819F-A26378B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D5F3-962E-4E9C-86ED-367C14E0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28A-7564-4909-ADAA-6907EF1A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BFE4-E874-4CCE-B92C-05ACEC8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527-FE12-4D41-B4C2-D8AC5C46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7BF-65DF-45A3-8249-A8B49A5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C7F8-57E3-4F8C-881D-38E8D6C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F4F4-3F4D-49A0-B366-DDF2E9F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1FC-0577-4090-91FF-CA5C389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8FDF-4C56-4700-8A34-FA234C33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4166-551F-4ACE-B120-916CC824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F3AE-EB1D-4FC8-9BAB-4D8D4055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BC44-2517-47A2-A015-06BFDB22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CDB4-2368-4F87-A6D7-70B38F82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B9DB-31A7-4DB7-ABA6-13500163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87C3-6F20-4E84-A028-8C2BE5BD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C5E-6F3A-4514-B66E-62810A8C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0ADE-70FB-4C36-BF88-5C4A04C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3429-A918-42CC-81AD-630A2DB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C757-7DF6-43D4-8A43-1B80187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C6FC0-414C-472A-8B37-3D57594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52C0-D4DA-4D03-A0DB-CE59B30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50E0-44AB-4DC2-A2FF-EF655016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BC2D-F5A1-446A-AFAC-7A191BA9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EB2A-F5BC-49FF-947D-9CBB4D8A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215D-925F-488D-B64C-E2DABB4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A013-000F-43AF-AFFE-313C1549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462-2272-41CD-AAC5-3295642B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374C-899E-49CB-8661-05BD5D7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00C0-F999-4BAA-B078-9DB9465B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74C6-7D79-43CE-B351-6878BBE9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E3DB-42C0-42D0-95B0-4EBAACA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CA079-71D1-4BF8-B9BC-95A812A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53C14-84A0-43C7-B2D5-53524DAF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83A8-FB5D-46F3-A77A-5CCB3D3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98D0-1EED-4711-98AC-EE653954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2E55-ECB1-4A9B-B6EF-2AB5B512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3F4B-38F3-4989-B3A1-1FFCC7BD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661-E1FF-47F3-8E64-2B12F316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811E-F427-42EA-B83B-DD3E3421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7812-559A-4051-B3BC-B452DAFB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F4C57-3E4F-402B-A122-9EA715F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27EB-5380-41A4-B4AB-3BEC13E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2077-DB28-496E-8F1A-1D67A3EA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A033-9896-4630-9F01-DF245B0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1AD4-98D9-4B62-BD28-9E4734C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BF91-B5FF-4E3F-B8F8-27C5FD33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E719-9F09-4DEF-80B0-E91CEDF8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54A1-ADF4-449A-9257-64BB0088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4C1-12B7-4A8D-937C-6BAF33D7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29C8-9EE9-4369-96EB-52A8AA43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98F16-1BA0-44BE-B68E-199D7827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491A9-646C-4DF6-86F0-0E1F7BAB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4409-5E63-4041-855C-BDFCB3D6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339C-D6D3-4AC0-A797-DD88B03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B7270-29EE-4DEC-B3E8-0E5A3E6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970C-D4D3-45AF-9FDB-3A7D469A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D299F-53B4-4855-8360-33A41D3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167B7-81F5-42DB-B682-9A56B3C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BC87-B349-4685-B698-3E0A62A2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E3F-B258-4F51-8751-15A0C096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F2C5-518A-42CC-9600-6F7F8D9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26111-157E-4545-B44C-BC9B8F49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F872-BDBF-4C00-9F02-EACDD342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8B23-BE1F-4CFF-93FB-A8312EBD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E05A-3039-4544-B7B1-BDACE90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4060-F964-4779-84E4-82C5DFB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90A74-7132-407F-9D9A-B5239150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8032E-DFEB-4D1A-865F-32EDEDE9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B4578-84E1-482C-BD94-49232A2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D8DFE-FAEC-49BA-98C0-0A302BF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7CE-83F6-4718-833C-D29808AE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DE50-8775-4DB5-96BB-99F94024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7D50-B064-4C12-8291-8340F99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FF03-3D6E-48B5-AA05-F9869A90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2681-5B6A-4364-9A12-287D83F9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57F5-B483-41F8-8224-6641E322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540B-236F-4695-9FDD-69B1E128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D8A9-0817-4D7B-ADEC-9E6359A4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AF1A-EF6D-469E-A983-81515DC5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6457-029E-4A97-8AC7-3ADBF8B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733D1-3142-47F5-AE0F-4A451D39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931-8234-4EAB-A5FC-B63E3CF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D179B-8427-4018-8A00-7C164D6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B594-A826-4E9B-9437-DFD2F3A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8307-B793-46CF-83C5-AF8607F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DB7D-EBF3-4046-AA0C-9DF4EB4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9EAF-2B5B-4119-8DD3-7F9CB312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CB13-D27F-4842-BD39-698C88B8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C096C-99B1-4A5B-A9E2-42D3A830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36E75-96B3-4977-9822-DDB0C8DF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913E7-B761-4F3A-94D7-3145563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36020-702C-4340-929C-E6854569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D710-0FAE-4777-87EA-95C0F53098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AF7A-66C2-40A7-A7B3-582665563D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B4E-15B9-4727-A7D9-018287CA7E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ACBD-5B2C-418A-8B22-AC4C65D4B9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573-F346-44A4-B98D-7CE36398E6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9B0-A75A-4220-9D5E-179B778D3C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FEBF-20E0-4BB7-B629-34C43790E2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AF0-BEE2-48DB-83B5-DC7B5A390E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CEE-085E-44FE-A8BE-B424C21A71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ED09-C2C8-44B3-9E1F-46A5AA1BDE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F97D-F8FA-44BB-B544-33AB27851B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127-E2BE-4299-9840-E23780D045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4 K svojmu krížu veď ma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vojmu krížu veď m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 mi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ním hojnosť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vný zdroj si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na kríži mrel môj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archu hriechov nies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u vinu krvou zmy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tratený nie s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om biedny, zran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istov kríž pri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láskou na mňa pozrel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cu som na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je moja ist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a nádej,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aj za mňa zomrel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utiekam 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pevná je skal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5:56:21Z</dcterms:modified>
  <cp:revision>21</cp:revision>
  <dc:subject/>
  <dc:title>Je veľký náš Pán, on slávy je Kráľ Nech do všetkých strán  spev vrúcnych znie chvál.</dc:title>
</cp:coreProperties>
</file>